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080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F87-B59E-4E80-B9DA-52287D0D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7FF-89BC-44F2-9AC6-A2505A83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690A-55E0-4C4A-85BF-A33700BF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846-B34D-4482-82C2-1CD97A71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BCD-392F-4D9F-95E9-4E70BD5D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1C9-D5BA-41C5-906D-CAB56BC6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3FA-38CC-4CCB-8158-1135847D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A8E-465A-4310-BA63-1B349CA7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243-AC07-4E34-95CA-B1D9DF2B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A04-7DD9-42CE-ADBA-5514875A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5F70-AABB-422F-B4F4-D4E321DD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8CD-BD53-44B3-8853-E8438CF5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78560"/>
            <a:ext cx="16002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78560"/>
            <a:ext cx="217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78560"/>
            <a:ext cx="16002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9443-F83C-479C-9F4A-578B62C97A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0"/>
            <a:ext cx="6858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メイリオ"/>
              </a:rPr>
              <a:t>自社の強みを再発見する！　ワークシー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9723600"/>
            <a:ext cx="6858000" cy="357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図 1" descr="クラウドマネージメント協会ロゴ.jpg"/>
          <p:cNvPicPr/>
          <p:nvPr/>
        </p:nvPicPr>
        <p:blipFill>
          <a:blip r:embed="rId1"/>
          <a:stretch/>
        </p:blipFill>
        <p:spPr>
          <a:xfrm>
            <a:off x="4508640" y="9072720"/>
            <a:ext cx="2181240" cy="57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1"/>
          <p:cNvSpPr/>
          <p:nvPr/>
        </p:nvSpPr>
        <p:spPr>
          <a:xfrm>
            <a:off x="525600" y="468360"/>
            <a:ext cx="580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の度は、当社主催のセミナーにご来場いただき、誠にありがとうござ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御社の営業・商品戦略をネット上で行うため、まずは自社の強みを発見する必要があ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以下のワークシートへご記入をお願い致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2"/>
          <p:cNvSpPr/>
          <p:nvPr/>
        </p:nvSpPr>
        <p:spPr>
          <a:xfrm>
            <a:off x="417600" y="1039680"/>
            <a:ext cx="60213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【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１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】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御社の強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会社の強みだと思えるものについて下記に記載願います。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程度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なるべく詳細まで記載頂くと、よりネット戦略が具体的に構築できます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3"/>
          <p:cNvSpPr/>
          <p:nvPr/>
        </p:nvSpPr>
        <p:spPr>
          <a:xfrm>
            <a:off x="2556720" y="1754280"/>
            <a:ext cx="1369440" cy="161676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＜例＞ 社長の個性、職人の技術力、創業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年の信用、受賞履歴、デザイン力、仕入力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独自商品・ブランドあり、既存客からのリピート、○○へのこだわり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○○に特化している、○○なら地域のどの会社にも負けない 　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4"/>
          <p:cNvSpPr/>
          <p:nvPr/>
        </p:nvSpPr>
        <p:spPr>
          <a:xfrm>
            <a:off x="428760" y="5678640"/>
            <a:ext cx="60213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【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３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】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ＰＲしたいキーワー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インターネットによる販売促進で、御社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たいキーワードを記載ください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商品カテゴリーや商品名、ブランド名などをご記載下さい。（５個以内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記載いただいたキーワードの市場性を調査し、絞り込み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5"/>
          <p:cNvSpPr/>
          <p:nvPr/>
        </p:nvSpPr>
        <p:spPr>
          <a:xfrm>
            <a:off x="571680" y="6540480"/>
            <a:ext cx="5357520" cy="131220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＜例＞健康住宅　子育て応援　新築そっくりさん　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6"/>
          <p:cNvSpPr/>
          <p:nvPr/>
        </p:nvSpPr>
        <p:spPr>
          <a:xfrm>
            <a:off x="482400" y="8066160"/>
            <a:ext cx="5959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会社名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　　　　　お役職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お名前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ご連絡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－　　　　－　　　　　　　　メールアドレス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対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7"/>
          <p:cNvSpPr/>
          <p:nvPr/>
        </p:nvSpPr>
        <p:spPr>
          <a:xfrm>
            <a:off x="404640" y="835344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8"/>
          <p:cNvSpPr/>
          <p:nvPr/>
        </p:nvSpPr>
        <p:spPr>
          <a:xfrm>
            <a:off x="404640" y="864252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04640" y="892980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0"/>
          <p:cNvSpPr/>
          <p:nvPr/>
        </p:nvSpPr>
        <p:spPr>
          <a:xfrm>
            <a:off x="1306800" y="9217080"/>
            <a:ext cx="23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ご協力ありがとうございました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1" descr="インターロジックロゴ"/>
          <p:cNvPicPr/>
          <p:nvPr/>
        </p:nvPicPr>
        <p:blipFill>
          <a:blip r:embed="rId2"/>
          <a:stretch/>
        </p:blipFill>
        <p:spPr>
          <a:xfrm>
            <a:off x="2712960" y="9109080"/>
            <a:ext cx="1579680" cy="468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2"/>
          <p:cNvSpPr/>
          <p:nvPr/>
        </p:nvSpPr>
        <p:spPr>
          <a:xfrm>
            <a:off x="420840" y="3433680"/>
            <a:ext cx="60213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【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２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】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ターゲット顧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今後狙っていきたいターゲット顧客を記載して下さい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なるべく詳細まで記載頂くと、よりネット戦略が具体的に構築できます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3"/>
          <p:cNvSpPr/>
          <p:nvPr/>
        </p:nvSpPr>
        <p:spPr>
          <a:xfrm>
            <a:off x="571680" y="4183200"/>
            <a:ext cx="5357520" cy="14644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＜例＞ ①法人か個人かをまず記載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 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法人であれば、業種　年商　取扱商材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 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個人の場合は、性別　年齢　収入　家族構成　嗜好　ライフスタイル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07:21:59Z</dcterms:created>
  <dc:creator>YOKOTA</dc:creator>
  <dc:description/>
  <dc:language>en-US</dc:language>
  <cp:lastModifiedBy>sinobu</cp:lastModifiedBy>
  <dcterms:modified xsi:type="dcterms:W3CDTF">2010-06-11T04:56:27Z</dcterms:modified>
  <cp:revision>15</cp:revision>
  <dc:subject/>
  <dc:title>スライド 1</dc:title>
</cp:coreProperties>
</file>